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5E3F-6ACE-4D89-8029-C81016442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B5F5-D4A3-42B1-8CE1-EF494EB7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5F3D-0977-4792-8FD4-CFD815868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BD7F-D58A-4129-B52A-D0FCF4BBD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7433-237C-47EC-9650-E794BD0F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C182-D63F-45A8-9810-A5469B23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71BB-54B4-47D3-9C21-EC293C6D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65E9-AE3B-4664-A447-3A4F68B3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2510-43D8-41EB-B82E-8F88F872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9084-CBD7-4A62-BBD8-56416E3F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E811-339B-4B8F-81A7-A94CD936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AE8A-EF09-4B12-8CAA-30D85CFE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2B99-2FB7-40DB-9BDF-F23CEACE3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95280" y="765000"/>
            <a:ext cx="7993080" cy="4092840"/>
            <a:chOff x="395280" y="765000"/>
            <a:chExt cx="7993080" cy="4092840"/>
          </a:xfrm>
        </p:grpSpPr>
        <p:sp>
          <p:nvSpPr>
            <p:cNvPr id="42" name=""/>
            <p:cNvSpPr/>
            <p:nvPr/>
          </p:nvSpPr>
          <p:spPr>
            <a:xfrm>
              <a:off x="395280" y="1052640"/>
              <a:ext cx="792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lg"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0360" y="1773360"/>
              <a:ext cx="1366920" cy="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headEnd len="sm" type="triangle" w="lg"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308720" y="1773360"/>
              <a:ext cx="1008360" cy="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headEnd len="sm" type="triangle" w="lg"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148360" y="2492280"/>
              <a:ext cx="7920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sm" type="triangle" w="lg"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95280" y="1773360"/>
              <a:ext cx="554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lg"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95280" y="2492280"/>
              <a:ext cx="474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lg"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95280" y="3213000"/>
              <a:ext cx="360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lg"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995640" y="3213000"/>
              <a:ext cx="1152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sm" type="triangle" w="lg"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95280" y="3933720"/>
              <a:ext cx="360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lg"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12000" y="1125360"/>
              <a:ext cx="1224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Cotis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soci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patr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236000" y="1484280"/>
              <a:ext cx="115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Assuran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68360" y="1484280"/>
              <a:ext cx="539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Salaire brut employé (brut ONS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68360" y="2205000"/>
              <a:ext cx="4608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Salaire brut imposab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68360" y="2924280"/>
              <a:ext cx="345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Salaire n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8360" y="3645000"/>
              <a:ext cx="345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Salaire n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941720" y="1835280"/>
              <a:ext cx="1224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Cotis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soci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personnel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68640" y="2746440"/>
              <a:ext cx="1224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Précomp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professionn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68360" y="765000"/>
              <a:ext cx="777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Salaire brut employeur (salaire coût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7640" y="263700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ON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236000" y="2133720"/>
              <a:ext cx="1152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Compagnies d’assur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88000" y="1773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740720" y="1773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580000" y="2781360"/>
              <a:ext cx="792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580000" y="249228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167440" y="334008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Fis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349092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6680" y="32148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28600" y="4359240"/>
              <a:ext cx="792360" cy="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headEnd len="sm" type="triangle" w="lg"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116000" y="4724280"/>
              <a:ext cx="7920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sm" type="triangle" w="lg"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908000" y="4221000"/>
              <a:ext cx="180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Payé par l’employeu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908000" y="4581360"/>
              <a:ext cx="410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Payé par l’employé par l’intermédiaire de l’employeu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-2943360" y="2771640"/>
            <a:ext cx="6459840" cy="42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2941560" y="682200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3T09:31:02Z</dcterms:created>
  <dc:creator>Cools</dc:creator>
  <dc:description/>
  <dc:language>en-US</dc:language>
  <cp:lastModifiedBy>Cools</cp:lastModifiedBy>
  <dcterms:modified xsi:type="dcterms:W3CDTF">2004-10-13T13:03:43Z</dcterms:modified>
  <cp:revision>3</cp:revision>
  <dc:subject/>
  <dc:title>Diapositive 1</dc:title>
</cp:coreProperties>
</file>